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B6F-81BB-40A2-8537-9C542CBF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25F-2EA0-460B-B651-38F3CA6B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2A0-48E8-4A80-9245-798E92B2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C5B-17E9-4911-95DD-3051CF4B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829-0896-4827-A4F9-AD9003A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BD8-0BE9-4C43-87B3-AE5F955C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904-844C-4D63-AD89-E92838D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891-B872-45A9-9CEB-EA16C267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5042-CC30-44AE-9BE4-2D9F79B3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FE0-D815-48BF-BA3C-8CBD508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F83-59B8-4E57-A367-69F041E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627-E7DD-432D-9DB9-7E64855D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0AD3-DBAE-4579-887D-4B895BD27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pcontent.answers.com/wikipedia/commons/thumb/0/0c/RobertFuddBewusstsein17Jh.png/180px-RobertFuddBewusstsein17Jh.png"/>
          <p:cNvPicPr/>
          <p:nvPr/>
        </p:nvPicPr>
        <p:blipFill>
          <a:blip r:embed="rId1"/>
          <a:stretch/>
        </p:blipFill>
        <p:spPr>
          <a:xfrm>
            <a:off x="1981080" y="117360"/>
            <a:ext cx="4648320" cy="6740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638680" y="41148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ciousness isn’t measureable/obser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yu.edu/uploadedImages/STERN/ACADEMIC__LIFE/ACADEMIC_ADVISEMENT/girls%20studying.jpg"/>
          <p:cNvPicPr/>
          <p:nvPr/>
        </p:nvPicPr>
        <p:blipFill>
          <a:blip r:embed="rId1"/>
          <a:stretch/>
        </p:blipFill>
        <p:spPr>
          <a:xfrm>
            <a:off x="0" y="380880"/>
            <a:ext cx="9406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waterfootprint.org/images/gallery/original/apple.jpg"/>
          <p:cNvPicPr/>
          <p:nvPr/>
        </p:nvPicPr>
        <p:blipFill>
          <a:blip r:embed="rId1"/>
          <a:stretch/>
        </p:blipFill>
        <p:spPr>
          <a:xfrm>
            <a:off x="838080" y="-152280"/>
            <a:ext cx="73152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ow about a little kiss"/>
          <p:cNvPicPr/>
          <p:nvPr/>
        </p:nvPicPr>
        <p:blipFill>
          <a:blip r:embed="rId1"/>
          <a:stretch/>
        </p:blipFill>
        <p:spPr>
          <a:xfrm>
            <a:off x="0" y="380880"/>
            <a:ext cx="90997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reud's couch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psywww.com/intropsych/ch04_senses/04vase.jpg"/>
          <p:cNvPicPr/>
          <p:nvPr/>
        </p:nvPicPr>
        <p:blipFill>
          <a:blip r:embed="rId1"/>
          <a:stretch/>
        </p:blipFill>
        <p:spPr>
          <a:xfrm>
            <a:off x="990720" y="-304920"/>
            <a:ext cx="7315200" cy="74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066680" y="-380880"/>
            <a:ext cx="6934320" cy="85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7692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5:44:47Z</dcterms:created>
  <dc:creator>BHS</dc:creator>
  <dc:description/>
  <dc:language>en-US</dc:language>
  <cp:lastModifiedBy>BHS</cp:lastModifiedBy>
  <dcterms:modified xsi:type="dcterms:W3CDTF">2009-08-20T18:19:56Z</dcterms:modified>
  <cp:revision>4</cp:revision>
  <dc:subject/>
  <dc:title>Slide 1</dc:title>
</cp:coreProperties>
</file>